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8D5B-BA50-40F6-BF75-E6D639DB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456-CDB0-468A-8EF0-FF101ECA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31D-0E9F-47B2-8B84-8977B2F6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5EF-7E13-4925-B703-368DEE26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889-F3D6-42A9-B6F3-2B6E0BEF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A2AF-0364-485E-B2D2-CCD9B6EC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23A-FE6E-44B8-8A83-68A1B5E6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636-B867-4FE1-BF0D-AE64F341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84C-00D6-46F0-B948-B3ABA072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E96-0631-422C-ADC6-F8697A39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D11-C1B6-4403-88CD-455211D8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500-AFD8-4684-9944-9D4480F9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E26AA-9B2C-4519-B89A-24418C8E6D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uel Ed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word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057400"/>
            <a:ext cx="86868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were 40 dogs in the animal shelter. There are 10 dog cages. How many dogs will fit in each ca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9920" y="2001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43434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4572000"/>
            <a:ext cx="4572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3886200"/>
            <a:ext cx="4572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88620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13:28Z</dcterms:created>
  <dc:creator/>
  <dc:description/>
  <dc:language>en-US</dc:language>
  <cp:lastModifiedBy/>
  <cp:revision>1</cp:revision>
  <dc:subject/>
  <dc:title/>
</cp:coreProperties>
</file>